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BB3-0D9A-4789-BF26-A6668F95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5E59-31CC-4BE9-B5EE-3200AAEA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F56D-F4F4-4C78-80CF-0A52DD30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358-9878-4526-BB38-E3249216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F71-DA04-437C-8458-74077946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C647-8874-4C6D-AE0E-42804267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2B7A-DF90-43DB-905F-817AAB85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2BF-6CF0-4D90-B68D-B627C7CA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717-B8AD-4E32-9C97-02FA3460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E0F-167B-41B4-8B9D-E4390DD7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5136-1ACD-4D0B-B7A7-D8BE03F8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283-55F4-4D02-BF14-29F66A11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EAA6-CE2B-423F-A3B8-9785790E4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943240" y="4724280"/>
            <a:ext cx="2590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236232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_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495288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48769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80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letter does not belong in the -at fami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igh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960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0120" y="52578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6:37:28Z</dcterms:created>
  <dc:creator>nancy_mangum</dc:creator>
  <dc:description/>
  <dc:language>en-US</dc:language>
  <cp:lastModifiedBy>nancy_mangum</cp:lastModifiedBy>
  <dcterms:modified xsi:type="dcterms:W3CDTF">2008-11-12T17:01:15Z</dcterms:modified>
  <cp:revision>3</cp:revision>
  <dc:subject/>
  <dc:title>Slide 1</dc:title>
</cp:coreProperties>
</file>